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wmf" ContentType="image/x-wmf"/>
  <Override PartName="/ppt/media/image5.wmf" ContentType="image/x-wmf"/>
  <Override PartName="/ppt/media/image6.png" ContentType="image/png"/>
  <Override PartName="/ppt/media/image7.wmf" ContentType="image/x-wmf"/>
  <Override PartName="/ppt/media/image8.wmf" ContentType="image/x-wmf"/>
  <Override PartName="/ppt/media/image9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5BADB-CE63-40C1-8DB9-723D0CEC0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673F3-2684-4FB7-85FC-1A4CF530F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24F49-BDA2-42F5-9813-BE2D9FF2C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4481C-58EB-4E5A-AFF9-EC2167178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072A5-6B91-4EBB-8AF5-7C5AA7CC7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D6460-F5B1-47BA-BE5C-854242273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EAD98-FA7A-465D-9AF1-0ECA70A37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32BE1-E152-426B-A2ED-C5EC92023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F3CDF-F61D-452B-908D-7DE880D75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E658A-1C9A-40EC-9BFC-DD2BC8A83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15149-7139-4675-BF34-AA54BC630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0D7A7-4B61-487D-8475-2BECF5053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ffffff"/>
            </a:gs>
            <a:gs pos="100000">
              <a:srgbClr val="bbe0e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05C41-B154-4BC5-851D-82F903931F6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ffffff"/>
            </a:gs>
            <a:gs pos="100000">
              <a:srgbClr val="bbe0e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32000" y="5013360"/>
            <a:ext cx="583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5734080"/>
            <a:ext cx="82296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 Black"/>
              </a:rPr>
              <a:t>LESSON </a:t>
            </a:r>
            <a:r>
              <a:rPr b="1" lang="ru-RU" sz="2800" spc="-1" strike="noStrike">
                <a:solidFill>
                  <a:srgbClr val="990000"/>
                </a:solidFill>
                <a:latin typeface="Arial Black"/>
              </a:rPr>
              <a:t>3 </a:t>
            </a:r>
            <a:r>
              <a:rPr b="1" lang="en-US" sz="2800" spc="-1" strike="noStrike">
                <a:solidFill>
                  <a:srgbClr val="990000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MY FAMILY / </a:t>
            </a:r>
            <a:r>
              <a:rPr b="0" lang="ru-RU" sz="2800" spc="-1" strike="noStrike">
                <a:solidFill>
                  <a:srgbClr val="990000"/>
                </a:solidFill>
                <a:latin typeface="Arial"/>
              </a:rPr>
              <a:t>МОЯ СЕМЬ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8648640" y="6362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ffffff"/>
            </a:gs>
            <a:gs pos="100000">
              <a:srgbClr val="bbe0e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Book Antiqua"/>
              </a:rPr>
              <a:t>I have a</a:t>
            </a:r>
            <a:r>
              <a:rPr b="0" lang="ru-RU" sz="2400" spc="-1" strike="noStrike">
                <a:solidFill>
                  <a:srgbClr val="333399"/>
                </a:solidFill>
                <a:latin typeface="Book Antiqua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Book Antiqua"/>
              </a:rPr>
              <a:t>mother/mum/mummy</a:t>
            </a: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(у меня есть мам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556000" y="1849320"/>
            <a:ext cx="4103640" cy="40608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8648640" y="6362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ffffff"/>
            </a:gs>
            <a:gs pos="100000">
              <a:srgbClr val="bbe0e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23640" y="1413000"/>
            <a:ext cx="4608360" cy="306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Book Antiqua"/>
              </a:rPr>
              <a:t>I </a:t>
            </a:r>
            <a:r>
              <a:rPr b="1" lang="en-US" sz="2000" spc="-1" strike="noStrike">
                <a:solidFill>
                  <a:srgbClr val="333399"/>
                </a:solidFill>
                <a:latin typeface="Book Antiqua"/>
              </a:rPr>
              <a:t> </a:t>
            </a:r>
            <a:r>
              <a:rPr b="1" lang="ru-RU" sz="2000" spc="-1" strike="noStrike">
                <a:solidFill>
                  <a:srgbClr val="333399"/>
                </a:solidFill>
                <a:latin typeface="Book Antiqua"/>
              </a:rPr>
              <a:t>love my Mummy</a:t>
            </a: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 </a:t>
            </a:r>
            <a:br>
              <a:rPr sz="2000"/>
            </a:br>
            <a:br>
              <a:rPr sz="1000"/>
            </a:br>
            <a:r>
              <a:rPr b="0" lang="ru-RU" sz="1800" spc="-1" strike="noStrike">
                <a:solidFill>
                  <a:srgbClr val="333399"/>
                </a:solidFill>
                <a:latin typeface="Book Antiqua"/>
              </a:rPr>
              <a:t>1, 1, 1 – I love the sun. </a:t>
            </a:r>
            <a:br>
              <a:rPr sz="1800"/>
            </a:br>
            <a:r>
              <a:rPr b="0" lang="ru-RU" sz="1800" spc="-1" strike="noStrike">
                <a:solidFill>
                  <a:srgbClr val="333399"/>
                </a:solidFill>
                <a:latin typeface="Book Antiqua"/>
              </a:rPr>
              <a:t>2, 2, 2 – I love my Mummy too! </a:t>
            </a:r>
            <a:br>
              <a:rPr sz="1800"/>
            </a:br>
            <a:r>
              <a:rPr b="0" lang="ru-RU" sz="1800" spc="-1" strike="noStrike">
                <a:solidFill>
                  <a:srgbClr val="333399"/>
                </a:solidFill>
                <a:latin typeface="Book Antiqua"/>
              </a:rPr>
              <a:t>3, 3, 3 – My Mummy loves me. </a:t>
            </a:r>
            <a:br>
              <a:rPr sz="1800"/>
            </a:br>
            <a:r>
              <a:rPr b="0" lang="ru-RU" sz="1800" spc="-1" strike="noStrike">
                <a:solidFill>
                  <a:srgbClr val="333399"/>
                </a:solidFill>
                <a:latin typeface="Book Antiqua"/>
              </a:rPr>
              <a:t>4, 4, 4 – I love her more and more. </a:t>
            </a:r>
            <a:br>
              <a:rPr sz="1800"/>
            </a:br>
            <a:r>
              <a:rPr b="0" lang="ru-RU" sz="1800" spc="-1" strike="noStrike">
                <a:solidFill>
                  <a:srgbClr val="333399"/>
                </a:solidFill>
                <a:latin typeface="Book Antiqua"/>
              </a:rPr>
              <a:t>I count from 1 – I love the sun. </a:t>
            </a:r>
            <a:br>
              <a:rPr sz="1800"/>
            </a:br>
            <a:r>
              <a:rPr b="0" lang="ru-RU" sz="1800" spc="-1" strike="noStrike">
                <a:solidFill>
                  <a:srgbClr val="333399"/>
                </a:solidFill>
                <a:latin typeface="Book Antiqua"/>
              </a:rPr>
              <a:t>I count to four – I love my Mummy more!  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859280" y="333360"/>
            <a:ext cx="3915000" cy="60483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042920" y="404640"/>
            <a:ext cx="36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Book Antiqua"/>
              </a:rPr>
              <a:t>Считалоч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8648640" y="636264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250920" y="4437000"/>
            <a:ext cx="5473440" cy="21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397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Я люблю мою мам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397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1,1,1 – я люблю солнц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397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2,2,2, - я люблю мою маму тоже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397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3,3,3 – моя мама любит мен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397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4,4,4, - я люблю её больше и больш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397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Я считаю с 1 – я люблю солнц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397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Я считаю до 4 – я люблю мою маму больше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ffffff"/>
            </a:gs>
            <a:gs pos="100000">
              <a:srgbClr val="bbe0e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Book Antiqua"/>
              </a:rPr>
              <a:t>I have a father/ dad  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(</a:t>
            </a: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у меня есть отец/папа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075120" y="1700280"/>
            <a:ext cx="3622680" cy="46083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8648640" y="6362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1" fill="hold"/>
                                        <p:tgtEl>
                                          <p:spTgt spid="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ffffff"/>
            </a:gs>
            <a:gs pos="100000">
              <a:srgbClr val="bbe0e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Book Antiqua"/>
              </a:rPr>
              <a:t>I have a brother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(</a:t>
            </a: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у меня есть брат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3639960" y="1600200"/>
          <a:ext cx="186408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39960" y="1600200"/>
                    <a:ext cx="186408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8648640" y="6362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1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ffffff"/>
            </a:gs>
            <a:gs pos="100000">
              <a:srgbClr val="bbe0e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Book Antiqua"/>
              </a:rPr>
              <a:t>I have a sister</a:t>
            </a: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 (у меня есть сестр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763640" y="1628640"/>
            <a:ext cx="6400800" cy="43912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8648640" y="6362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1" fill="hold"/>
                                        <p:tgtEl>
                                          <p:spTgt spid="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ffffff"/>
            </a:gs>
            <a:gs pos="100000">
              <a:srgbClr val="bbe0e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Book Antiqua"/>
              </a:rPr>
              <a:t>I have a grandfather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(</a:t>
            </a: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у меня есть дедушка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2838600" y="1600200"/>
          <a:ext cx="346536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38600" y="1600200"/>
                    <a:ext cx="346536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8648640" y="6362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1" fill="hold"/>
                                        <p:tgtEl>
                                          <p:spTgt spid="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ffffff"/>
            </a:gs>
            <a:gs pos="100000">
              <a:srgbClr val="bbe0e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5280" y="274320"/>
            <a:ext cx="829152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Book Antiqua"/>
              </a:rPr>
              <a:t>I have a</a:t>
            </a:r>
            <a:r>
              <a:rPr b="0" lang="ru-RU" sz="2400" spc="-1" strike="noStrike">
                <a:solidFill>
                  <a:srgbClr val="333399"/>
                </a:solidFill>
                <a:latin typeface="Book Antiqua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Book Antiqua"/>
              </a:rPr>
              <a:t>grandmother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(у меня есть бабушк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3147840" y="2008080"/>
          <a:ext cx="2848320" cy="370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47840" y="2008080"/>
                    <a:ext cx="2848320" cy="370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8648640" y="6362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1" fill="hold"/>
                                        <p:tgtEl>
                                          <p:spTgt spid="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ffffff"/>
            </a:gs>
            <a:gs pos="100000">
              <a:srgbClr val="bbe0e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Arial"/>
              </a:rPr>
              <a:t>Спойте песенк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31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This is my fam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My fa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My mo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My brother and 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This is my fami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And we say good-by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4932360" y="1700280"/>
          <a:ext cx="3710160" cy="392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32360" y="1700280"/>
                    <a:ext cx="3710160" cy="392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8648640" y="6362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1" fill="hold"/>
                                        <p:tgtEl>
                                          <p:spTgt spid="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0T15:47:29Z</dcterms:created>
  <dc:creator>пользователь</dc:creator>
  <dc:description/>
  <dc:language>en-US</dc:language>
  <cp:lastModifiedBy>людмила</cp:lastModifiedBy>
  <dcterms:modified xsi:type="dcterms:W3CDTF">2009-08-16T06:49:46Z</dcterms:modified>
  <cp:revision>28</cp:revision>
  <dc:subject/>
  <dc:title>Слайд 1</dc:title>
</cp:coreProperties>
</file>